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8C9-4A97-4210-8752-15084E4E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AD0-544A-46D8-A71D-55214E7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C76-4FC2-4311-A290-D19BE219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2D3-C5B2-46AB-A91D-A657976B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9FA-6A15-47EF-AD3C-C260A3AB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F000-56F1-4559-B606-CA0377A4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87E-510A-4877-A996-010AF51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7FA-EF3B-4F5B-BF22-00161828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48A-1BA2-476E-8B1D-ACBBEC53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AF6-2CB9-4EA1-ACA2-A23BAB0B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9AB-BCAC-4A40-9857-C51AFFD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692-8C73-4208-8AD6-57915A3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6774-AA66-4E31-9F28-66D7F00E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comic"/>
              </a:rPr>
              <a:t>Team…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Forte"/>
              </a:rPr>
              <a:t>For some reason we are still not on Jon’s 2010Wiki3006 page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Gilligans Island"/>
              </a:rPr>
              <a:t>I’m not sure what to do but we should try and fix this…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38:08Z</dcterms:created>
  <dc:creator>Miriam</dc:creator>
  <dc:description/>
  <dc:language>en-US</dc:language>
  <cp:lastModifiedBy>Miriam</cp:lastModifiedBy>
  <dcterms:modified xsi:type="dcterms:W3CDTF">2010-08-25T11:38:20Z</dcterms:modified>
  <cp:revision>1</cp:revision>
  <dc:subject/>
  <dc:title>Team……</dc:title>
</cp:coreProperties>
</file>